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AF7-79F9-4121-9FFD-154F0D87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431-BA5A-420B-AA3D-D7F87C4C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8B0-D160-44D1-8C94-2C1FC400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3A9-2880-4F08-B042-A6B366CE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418-25C2-435C-BF5B-D52E2140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B9E-AE8A-4F11-BECC-5D12BC50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067-897D-4CC8-B8A3-2FBE5E3D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AF9-C92C-4FA7-812F-93000F0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478-0D79-4973-91CE-9A1288BB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A06-C943-481F-8377-335BB803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5CD-2316-4275-9A35-61DFE671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BAB-9940-4B4D-BA83-3B2B6D7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D545-3AF3-463B-9E92-9A4DC8C7089B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8D4E-3165-4AE1-8B2F-3B74DBF64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84872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F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ing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 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y Electro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25C-4BE7-47E4-AE3B-A9474754D3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r Comparison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1371600"/>
          <a:ext cx="8610480" cy="491652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41560"/>
                <a:gridCol w="245412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T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T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rget us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bedded develo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ad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ad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ry function, by comp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c definitions i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able, using external 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 inter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ho and cat, using /pr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tctl and lttd, using net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p, using insmod and kpro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h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ce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ii, fix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, with xml sch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able, printf and ascii-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-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d, text-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ttv, graph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tapgui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36A-CD2F-41F8-99D1-940385B7A3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r Commo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mm… &lt;crickets chirping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518-DD49-4509-B7FC-2F7C506DA1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grate KFT into LTT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ave LTTng support externally-defined, but compiled-in, trace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bilize trace buffer mechanism in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ild best-of-systemtap functions module, which can be compiled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ndardize trace fil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else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E72-17E3-41A2-B797-8565D01A45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FT Quicki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FT = Kernel Function 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 compiler switch (-finstrument_functions) to instrument EVERY function in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-intrusion patch to kernel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d for finding latency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 for long-duration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a function stack from which short duration functions are constantly p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cally used to find places to improve bootup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534-E33D-4A67-AADE-109C39295B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F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ftstatic.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t /proc/kft_data | addr2sym -m System.m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514600"/>
            <a:ext cx="5715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 start entry start_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 end entry to_user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 mintim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343400"/>
            <a:ext cx="7848360" cy="213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ry Delta  PID Function                  Called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---- ------ --- ------------------------- 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     0   0 start_kernel               L6+0x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4   8687   0 setup_arch                 start_kernel+0x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9    891   0 setup_memory               setup_arch+0x2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3    872   0 register_bootmem_low_pages setup_memory+0x8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872-E6D0-47A8-A6B6-B92797188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triggers,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race very early - from first kernel in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procfs for control and data (everything ASC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processing tool sh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sorted by duration, call count, local tim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ree, including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gle: “KernelFunctionTrace” (all one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932-A7DC-44C8-A363-44DCB6AA18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ing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070-D385-415A-A3A5-D171988174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llabo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avoid duplicating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avoid conflicts and re-inforce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Kernel will support AT MOST one set of static trace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produce awesome tools with great capabilities and usefu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open source, dang-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proc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have talked before - was there any outc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22A-88FD-4642-B7C6-80AF97E045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ing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definition/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, control, capture,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-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ing the data and 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ds of data ga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DF9-1AF1-4C6A-8D68-7F3290CB36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ing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epoint/probe point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location in the traced software, which, when encountered, “emits” an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e/probe handler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de to execute when an event occurs or a sample is t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e defin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the set of tracepoints, handlers and constraints which determine what events are collected and how they are pro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t-proces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manipulation of the trace data after the trace is col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updating statistics or other analytical information, based on trace events or s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criteria used to limit the events that are captured or pro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gg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riteria used to start and stop tracing auto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sualization tool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l to present trace data graphically to make it easier to analy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cepoints and trace handlers can be defined eith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-sourc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 compiled-in, 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ic tracepoi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ternall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inserted a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ynamic tracepoi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D7F-8F5E-42B1-97A3-C10CCB9531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cer Comparison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905120"/>
            <a:ext cx="708660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16200000">
            <a:off x="-323280" y="3904920"/>
            <a:ext cx="19810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verhead</a:t>
            </a:r>
            <a:endParaRPr b="0" lang="en-US" sz="1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3276720"/>
            <a:ext cx="19051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4191120"/>
            <a:ext cx="175248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T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09680"/>
            <a:ext cx="1600200" cy="12193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1828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1722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4419720"/>
            <a:ext cx="18288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001-1920-42A9-B09B-8FED4A8EE7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Thomas U. Swidler</dc:creator>
  <dc:description/>
  <dc:language>en-US</dc:language>
  <cp:lastModifiedBy>Tim Bird</cp:lastModifiedBy>
  <dcterms:modified xsi:type="dcterms:W3CDTF">2006-07-18T13:37:51Z</dcterms:modified>
  <cp:revision>13</cp:revision>
  <dc:subject/>
  <dc:title>PowerPoint Presentation</dc:title>
</cp:coreProperties>
</file>